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146E7-2EB6-4B02-B672-AEEA19B7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2FDD13-FB33-42C2-8DBD-A5612533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11F2D-6586-4BCF-974C-470ED24B70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8DA-5F3B-4B1D-9B56-9DF33C10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704-999A-44C9-9AF8-FFEEE5D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67B-02F8-467B-B605-8851645B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C6A-A3F0-40AF-B43D-8404BAB9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282-46BE-4FA7-AE21-697A5C67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65AE-8E1D-43E0-B86C-F486385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40C-4727-4DB5-AEEF-752FEC4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57D-91AF-4168-AA4D-770A7764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93AD-C53E-4C6E-B8F0-E0B88B90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8941-5494-4F14-97E3-2A85F03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DCC-7861-40AE-9BC5-3D3C8F0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14A-D019-414B-A215-9732E99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1133-A8A6-4520-8697-F54F4AD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3A31-2F5A-4065-9D49-2FCC066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EE97-0C58-4481-8D7E-E496682F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F89E-7EEA-4CFF-87BB-6B68CA8C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B339-D6CA-45F7-925F-85C02032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A5B-973C-4BAE-9ADA-BFF2309B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5C7-BE62-4B16-B36F-20E06672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AD0-1CC3-4818-B9DE-01FF0B4F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9F2-F32E-4022-8247-A50AE1C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D49-48EB-434B-9163-9F7CBEA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A45-6AEF-436F-9FB2-466594A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B42-A15F-4543-BCE9-4312A44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D12EA-7227-4986-B966-C897562ED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7BEEC-0E8F-4745-A9EF-A2524F6CD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157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HO &amp;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5616360"/>
            <a:ext cx="6400800" cy="9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SIP Discovery – Show &amp; T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SIP Summer Meeting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tt Cechi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Data Discovery &amp; ECHO AP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OpenSearch’s Impact to EC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ECHO-ESIP Cl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Corbel"/>
              </a:rPr>
              <a:t>Futur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CCEF-3C44-40D8-B29C-4916F251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3886200" y="6400800"/>
            <a:ext cx="1295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6640" y="0"/>
            <a:ext cx="7677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Discovery &amp; the ECHO AP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4840" y="1325160"/>
            <a:ext cx="358128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s “legacy” SOAP data discovery &amp; response forma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lements core discovery capability against inde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 metadata translation to ECHO 10, ISO 19115, &amp;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S v1.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om (XML &amp; JSON-tentativ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en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s OpenSearch request/response capabil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ture activity : Utilize dynamic format translation in ECHO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81508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gnetic Disk 3"/>
          <p:cNvSpPr/>
          <p:nvPr/>
        </p:nvSpPr>
        <p:spPr>
          <a:xfrm>
            <a:off x="5686560" y="4219560"/>
            <a:ext cx="1657080" cy="1093680"/>
          </a:xfrm>
          <a:prstGeom prst="flowChartMagneticDisk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CHO XML 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Native Metadata &amp; Spatial Index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11804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7448400" y="2394000"/>
            <a:ext cx="1398600" cy="3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n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9"/>
          <p:cNvCxnSpPr>
            <a:stCxn id="103" idx="1"/>
            <a:endCxn id="100" idx="3"/>
          </p:cNvCxnSpPr>
          <p:nvPr/>
        </p:nvCxnSpPr>
        <p:spPr>
          <a:xfrm flipH="1">
            <a:off x="7213320" y="2590560"/>
            <a:ext cx="235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5" name="Straight Arrow Connector 21"/>
          <p:cNvCxnSpPr>
            <a:stCxn id="100" idx="1"/>
            <a:endCxn id="102" idx="3"/>
          </p:cNvCxnSpPr>
          <p:nvPr/>
        </p:nvCxnSpPr>
        <p:spPr>
          <a:xfrm flipH="1">
            <a:off x="5515920" y="2590560"/>
            <a:ext cx="299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Cube 26"/>
          <p:cNvSpPr/>
          <p:nvPr/>
        </p:nvSpPr>
        <p:spPr>
          <a:xfrm>
            <a:off x="3863880" y="4219560"/>
            <a:ext cx="1652760" cy="1093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29"/>
          <p:cNvCxnSpPr>
            <a:stCxn id="102" idx="2"/>
            <a:endCxn id="106" idx="0"/>
          </p:cNvCxnSpPr>
          <p:nvPr/>
        </p:nvCxnSpPr>
        <p:spPr>
          <a:xfrm>
            <a:off x="4818240" y="2788920"/>
            <a:ext cx="10080" cy="1430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8" name="Elbow Connector 6"/>
          <p:cNvCxnSpPr/>
          <p:nvPr/>
        </p:nvCxnSpPr>
        <p:spPr>
          <a:xfrm flipH="1" rot="16200000">
            <a:off x="4927680" y="3016440"/>
            <a:ext cx="1430640" cy="975240"/>
          </a:xfrm>
          <a:prstGeom prst="bentConnector3">
            <a:avLst>
              <a:gd name="adj1" fmla="val 49987"/>
            </a:avLst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Elbow Connector 20"/>
          <p:cNvCxnSpPr>
            <a:stCxn id="103" idx="0"/>
            <a:endCxn id="102" idx="0"/>
          </p:cNvCxnSpPr>
          <p:nvPr/>
        </p:nvCxnSpPr>
        <p:spPr>
          <a:xfrm flipV="1" rot="16200000">
            <a:off x="6481800" y="729000"/>
            <a:ext cx="13680" cy="3329640"/>
          </a:xfrm>
          <a:prstGeom prst="bentConnector3">
            <a:avLst>
              <a:gd name="adj1" fmla="val 1800000"/>
            </a:avLst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110" name="TextBox 23"/>
          <p:cNvSpPr/>
          <p:nvPr/>
        </p:nvSpPr>
        <p:spPr>
          <a:xfrm>
            <a:off x="6054840" y="18399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  <a:ea typeface="Corbel"/>
              </a:rPr>
              <a:t>OpenSearch’s Impact to EC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43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Simple REST-ful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Legacy SOAP interface had an inherently high learning and development curve due to techn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penSearch was ECHO’s first foray into a simple REST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Quick &amp; Simple to develop service on top of existing capabiliti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ovided a head start for eventual full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Increased Client Expos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gnificantly reduced development complex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road usage of OpenSeach API allowed for quicker interoper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mmediate response from client developer commun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Mirador – GES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SCS3 – GH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Mercury - ORN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Simple Result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mple results reduces the amount of data transferred to requesting cli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duced OpenSearch results vs. client application needs forces custom elements and opens the door for granule result scope cree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Keyword Search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pened up the concept of an indexed textual search for ECHO metada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triage of all metadata fields to determine what should or should not be index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ovided a head start for eventual full REST AP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CHO-ESIP Cl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ECHO-ES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Reference client exposing OpenSearch dataset &amp; granule discove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Intended for ECHO Internal &amp; External Validation 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71885-7BAA-4400-B248-A48211D3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Screen shot 2011-07-12 at 11.22.57 PM.png"/>
          <p:cNvPicPr/>
          <p:nvPr/>
        </p:nvPicPr>
        <p:blipFill>
          <a:blip r:embed="rId1"/>
          <a:stretch/>
        </p:blipFill>
        <p:spPr>
          <a:xfrm>
            <a:off x="227160" y="2852640"/>
            <a:ext cx="4117680" cy="30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2" descr="Screen shot 2011-07-12 at 11.23.16 PM.png"/>
          <p:cNvPicPr/>
          <p:nvPr/>
        </p:nvPicPr>
        <p:blipFill>
          <a:blip r:embed="rId2"/>
          <a:stretch/>
        </p:blipFill>
        <p:spPr>
          <a:xfrm>
            <a:off x="4659480" y="2852640"/>
            <a:ext cx="4241520" cy="30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Box 3"/>
          <p:cNvSpPr/>
          <p:nvPr/>
        </p:nvSpPr>
        <p:spPr>
          <a:xfrm>
            <a:off x="1784520" y="6172200"/>
            <a:ext cx="55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api.echo.nasa.gov/echo-esip/search/dataset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7000" y="0"/>
            <a:ext cx="743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ヒラギノ角ゴ Pro W3"/>
              </a:rPr>
              <a:t>Support OpenSearch 1.1 Spec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ヒラギノ角ゴ Pro W3"/>
              </a:rPr>
              <a:t>Support correct ‘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rel’ attribute li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Support translation of all spatial types to Georss:Simple or G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Provide MBR for all non-orbit granul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Computing MBRs for new indexed searching cap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Move ECHO-ESIP to utilize ECHO REST AP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ECHO translation of dataset &amp; granule metadata to Atom OpenSearch form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advanced keyword text search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Provide result count in 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Investigate Reverb U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Utilize Atom OpenSearch format as the default response type for dataset &amp; granule result l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For performance reasons, response data may actually be a JSON representation of the Atom f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Will require additional custom elements (e.g. LocalGranuleID &amp; ArchiveCent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  <a:ea typeface="Corbel"/>
              </a:rPr>
              <a:t>Unclear how orbit parameters will be represented, if required i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  <a:ea typeface="Corbel"/>
              </a:rPr>
              <a:t>Data (Collection &amp; Granule) Cast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Corbel"/>
              </a:rPr>
              <a:t>Leverage the ECHO REST API query capability &amp; Atom conversion sup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1:54:25Z</dcterms:created>
  <dc:creator>Matt Cechini</dc:creator>
  <dc:description/>
  <dc:language>en-US</dc:language>
  <cp:lastModifiedBy>Matt Cechini</cp:lastModifiedBy>
  <dcterms:modified xsi:type="dcterms:W3CDTF">2011-07-13T15:52:54Z</dcterms:modified>
  <cp:revision>30</cp:revision>
  <dc:subject/>
  <dc:title>PowerPoint Presentation</dc:title>
</cp:coreProperties>
</file>